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82b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1A70-6FB4-4CC3-9B90-099D50E30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templates share (depending on department &amp; sty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identify these components in the samp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t for future 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253D-9676-4E7B-B57A-720465642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8B32-17D5-4DE3-9441-AD0F5F087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: Brainstorm a list of benefits of well-planned lessons and pitfalls of poorly planned les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6375-1AAB-4011-B8BB-4DD652915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5DBE-AA2F-441E-8367-EAA6AEE1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531B-E9D6-4F6D-B4F9-9EDF3B59A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D768-DCDA-4D49-8DC0-D023D3912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6C0D-A944-4925-B5C8-8A064E760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8064-BCEF-46F9-9B30-BCDE2DCC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E109-A5E5-46FB-8320-BD8F1956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0AFC-EAD1-4F63-844D-14DCE32A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907A-4C85-417F-B37E-2B9BCA7B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9C236-D1D7-40D2-A594-138877BF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232B-0262-42FE-A1E7-B2B369A6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A145-C515-47C7-AD7F-6B9F32F6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4D15A-9158-43B2-A53B-66FEEAF9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A213-D064-4773-9E79-20B984A0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B882-77B9-4ECB-9F61-9C6F84EF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BC54-9E28-4D40-B67C-A0564CFE6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46E6-80B5-4317-B466-3664421BA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A849-0E23-45E8-97CA-F485D74D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0946-9406-4766-B098-2CF6BE90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F20D-2CC1-48A3-884A-66EB8B1F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CE53-AC90-409C-B8EE-E41F377B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304D-18D8-4CC4-90E9-6E307148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E646-5233-4080-86DD-9B9FE57D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49E6-50D4-4805-82B1-11EBC0D1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ada">
            <a:alpha val="9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0737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deb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62bc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82b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7377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ebe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7377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7377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F8CB-5A5B-42FE-A9DA-79E075633C7B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Framework for Teaching Charlotte Daniel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50D7-EACE-4C6B-902D-74C6ABEA80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62b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ada">
            <a:alpha val="9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0737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deb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62bc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62b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54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0737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6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62bc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60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deb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62bc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82b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7377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ebe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7377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7377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1125-6EBE-4742-BBFE-01DB084C3EF8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Framework for Teaching Charlotte Daniel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24E1-FC8C-40B2-BA13-B20FE04E9B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76201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1782bf"/>
                </a:solidFill>
                <a:latin typeface="Times New Roman"/>
              </a:rPr>
              <a:t>Framework for Teaching</a:t>
            </a: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solidFill>
            <a:srgbClr val="dfbe0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Lesson Plan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http://grow.hope.edu/img/Prepare%20The%20Way%20-%20Final.JPG"/>
          <p:cNvPicPr/>
          <p:nvPr/>
        </p:nvPicPr>
        <p:blipFill>
          <a:blip r:embed="rId1"/>
          <a:stretch/>
        </p:blipFill>
        <p:spPr>
          <a:xfrm>
            <a:off x="0" y="0"/>
            <a:ext cx="2992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1522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Signs of Effective Teaching</a:t>
            </a: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86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Knowing the </a:t>
            </a:r>
            <a:r>
              <a:rPr b="0" lang="en-US" sz="2400" spc="-1" strike="noStrike">
                <a:solidFill>
                  <a:srgbClr val="0070c0"/>
                </a:solidFill>
                <a:latin typeface="Lucida Sans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nderstanding </a:t>
            </a:r>
            <a:r>
              <a:rPr b="0" lang="en-US" sz="2400" spc="-1" strike="noStrike">
                <a:solidFill>
                  <a:srgbClr val="00b0f0"/>
                </a:solidFill>
                <a:latin typeface="Lucida Sans"/>
              </a:rPr>
              <a:t>how students devel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Valuing the </a:t>
            </a:r>
            <a:r>
              <a:rPr b="0" lang="en-US" sz="2400" spc="-1" strike="noStrike">
                <a:solidFill>
                  <a:srgbClr val="0070c0"/>
                </a:solidFill>
                <a:latin typeface="Lucida Sans"/>
              </a:rPr>
              <a:t>diversity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of the students within the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lanning strategic lessons </a:t>
            </a:r>
            <a:r>
              <a:rPr b="0" lang="en-US" sz="2400" spc="-1" strike="noStrike">
                <a:solidFill>
                  <a:srgbClr val="00b0f0"/>
                </a:solidFill>
                <a:latin typeface="Lucida Sans"/>
              </a:rPr>
              <a:t>using research-based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sing </a:t>
            </a:r>
            <a:r>
              <a:rPr b="0" lang="en-US" sz="2400" spc="-1" strike="noStrike">
                <a:solidFill>
                  <a:srgbClr val="0070c0"/>
                </a:solidFill>
                <a:latin typeface="Lucida Sans"/>
              </a:rPr>
              <a:t>multiple assessments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o evaluate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0" y="16765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reating a suitable </a:t>
            </a:r>
            <a:r>
              <a:rPr b="0" lang="en-US" sz="2400" spc="-1" strike="noStrike">
                <a:solidFill>
                  <a:srgbClr val="00b0f0"/>
                </a:solidFill>
                <a:latin typeface="Lucida Sans"/>
              </a:rPr>
              <a:t>learn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dapting and </a:t>
            </a:r>
            <a:r>
              <a:rPr b="0" lang="en-US" sz="2400" spc="-1" strike="noStrike">
                <a:solidFill>
                  <a:srgbClr val="0070c0"/>
                </a:solidFill>
                <a:latin typeface="Lucida Sans"/>
              </a:rPr>
              <a:t>modifying instr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sing effective </a:t>
            </a:r>
            <a:r>
              <a:rPr b="0" lang="en-US" sz="2400" spc="-1" strike="noStrike">
                <a:solidFill>
                  <a:srgbClr val="00b0f0"/>
                </a:solidFill>
                <a:latin typeface="Lucida Sans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Lucida Sans"/>
              </a:rPr>
              <a:t>Collaborating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with all members of the learning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ngaging in sustained </a:t>
            </a:r>
            <a:r>
              <a:rPr b="0" lang="en-US" sz="2400" spc="-1" strike="noStrike">
                <a:solidFill>
                  <a:srgbClr val="00b0f0"/>
                </a:solidFill>
                <a:latin typeface="Lucida Sans"/>
              </a:rPr>
              <a:t>professional growth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xper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7C32-042D-4559-8723-92A6A985A30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"/>
          <p:cNvPicPr/>
          <p:nvPr/>
        </p:nvPicPr>
        <p:blipFill>
          <a:blip r:embed="rId1"/>
          <a:stretch/>
        </p:blipFill>
        <p:spPr>
          <a:xfrm>
            <a:off x="7315200" y="304920"/>
            <a:ext cx="15987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1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n EFFECTIVE LESSON Includes</a:t>
            </a: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of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m-up and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iated Present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or engag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ere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ndards that were add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028" descr="j0287535"/>
          <p:cNvPicPr/>
          <p:nvPr/>
        </p:nvPicPr>
        <p:blipFill>
          <a:blip r:embed="rId1"/>
          <a:stretch/>
        </p:blipFill>
        <p:spPr>
          <a:xfrm>
            <a:off x="6781680" y="3962520"/>
            <a:ext cx="1336680" cy="1914480"/>
          </a:xfrm>
          <a:prstGeom prst="rect">
            <a:avLst/>
          </a:prstGeom>
          <a:ln w="0">
            <a:noFill/>
          </a:ln>
        </p:spPr>
      </p:pic>
      <p:sp>
        <p:nvSpPr>
          <p:cNvPr id="154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4154-E955-49F3-A3FE-3C1A82A38B8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8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80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82bf"/>
                </a:solidFill>
                <a:latin typeface="Times New Roman"/>
              </a:rPr>
              <a:t>Areas for Improvement</a:t>
            </a: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that we’ve identified the components that are present in the sample lesson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ich components need further develop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685800" y="3657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We will focus on these in subsequent s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6705720" y="4267080"/>
            <a:ext cx="21319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523880" y="1600200"/>
            <a:ext cx="59436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 teacher who is attempting to teach without inspiring the pupil with a desire to learn is hammering on a cold ir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orace Ma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277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82bf"/>
                </a:solidFill>
                <a:latin typeface="Times New Roman"/>
              </a:rPr>
              <a:t>Thank you for Completing the 1</a:t>
            </a:r>
            <a:r>
              <a:rPr b="0" lang="en-US" sz="3600" spc="-1" strike="noStrike" baseline="30000">
                <a:solidFill>
                  <a:srgbClr val="1782bf"/>
                </a:solidFill>
                <a:latin typeface="Times New Roman"/>
              </a:rPr>
              <a:t>st</a:t>
            </a:r>
            <a:r>
              <a:rPr b="0" lang="en-US" sz="3600" spc="-1" strike="noStrike">
                <a:solidFill>
                  <a:srgbClr val="1782bf"/>
                </a:solidFill>
                <a:latin typeface="Times New Roman"/>
              </a:rPr>
              <a:t> Session!</a:t>
            </a: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480A-C5C8-44DF-83F9-C273A6DFDC4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914400" y="3809880"/>
            <a:ext cx="7696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til the Next Session, when planning try to make sure your lesson plans answer the four key ques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students lear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what degr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they learn? To what depth and breadt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ill the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qui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is learnin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ill the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is learn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82bf"/>
                </a:solidFill>
                <a:latin typeface="Times New Roman"/>
              </a:rPr>
              <a:t>PURPOSE</a:t>
            </a: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76212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nstitute will provide us further understanding of lesson planning by looking at the following six compon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ebe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ful Lesson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ebe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ing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ebe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ebe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ebe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ignment of Tasks w/ Objectives &amp;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ebe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4D59-9C2A-4214-9286-7B557CE9FE2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6324480" y="2362320"/>
            <a:ext cx="21416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Lucida Sans"/>
              </a:rPr>
              <a:t>GOALS</a:t>
            </a: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(this session)</a:t>
            </a:r>
            <a:endParaRPr b="0" lang="en-US" sz="32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o describe the value of effective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o discuss and utilize various components of effective lesson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o provide templates for lesson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BCB0-0AD6-4159-8DB3-6983BD35B27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838080" y="411480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"/>
              </a:rPr>
              <a:t>Anticipated Goals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future sess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o provide guidance &amp; resources for all components lesson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o summarize NYS Standards and CC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o provide TIME for designing effective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7010280" y="0"/>
            <a:ext cx="13716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82bf"/>
                </a:solidFill>
                <a:latin typeface="Arial"/>
              </a:rPr>
              <a:t>Group Norms </a:t>
            </a: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4479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us reach the outcomes we hope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ddress any fears we may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aximize the quality of our professional lear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yourself, 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what norms will we need for these sess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down ONE norm that you will need for your own learn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with a colleagu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4491-0FFE-4D5A-8DB2-4DFDC958870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6705720" y="0"/>
            <a:ext cx="160020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700"/>
                            </p:stCondLst>
                            <p:childTnLst>
                              <p:par>
                                <p:cTn id="3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1600"/>
                            </p:stCondLst>
                            <p:childTnLst>
                              <p:par>
                                <p:cTn id="3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782bf"/>
                </a:solidFill>
                <a:latin typeface="Times New Roman"/>
                <a:ea typeface="SimSun"/>
              </a:rPr>
              <a:t>Lesson planning is simply making decisions about </a:t>
            </a:r>
            <a:r>
              <a:rPr b="1" i="1" lang="en-US" sz="2400" spc="-1" strike="noStrike">
                <a:solidFill>
                  <a:srgbClr val="1782bf"/>
                </a:solidFill>
                <a:latin typeface="Times New Roman"/>
                <a:ea typeface="SimSun"/>
              </a:rPr>
              <a:t>what</a:t>
            </a:r>
            <a:r>
              <a:rPr b="0" i="1" lang="en-US" sz="2400" spc="-1" strike="noStrike">
                <a:solidFill>
                  <a:srgbClr val="1782bf"/>
                </a:solidFill>
                <a:latin typeface="Times New Roman"/>
                <a:ea typeface="SimSun"/>
              </a:rPr>
              <a:t> to teach, </a:t>
            </a:r>
            <a:r>
              <a:rPr b="1" i="1" lang="en-US" sz="2400" spc="-1" strike="noStrike">
                <a:solidFill>
                  <a:srgbClr val="1782bf"/>
                </a:solidFill>
                <a:latin typeface="Times New Roman"/>
                <a:ea typeface="SimSun"/>
              </a:rPr>
              <a:t>how</a:t>
            </a:r>
            <a:r>
              <a:rPr b="0" i="1" lang="en-US" sz="2400" spc="-1" strike="noStrike">
                <a:solidFill>
                  <a:srgbClr val="1782bf"/>
                </a:solidFill>
                <a:latin typeface="Times New Roman"/>
                <a:ea typeface="SimSun"/>
              </a:rPr>
              <a:t> to teach, and the </a:t>
            </a:r>
            <a:r>
              <a:rPr b="1" i="1" lang="en-US" sz="2400" spc="-1" strike="noStrike">
                <a:solidFill>
                  <a:srgbClr val="1782bf"/>
                </a:solidFill>
                <a:latin typeface="Times New Roman"/>
                <a:ea typeface="SimSun"/>
              </a:rPr>
              <a:t>assigned timing </a:t>
            </a:r>
            <a:r>
              <a:rPr b="0" i="1" lang="en-US" sz="2400" spc="-1" strike="noStrike">
                <a:solidFill>
                  <a:srgbClr val="1782bf"/>
                </a:solidFill>
                <a:latin typeface="Times New Roman"/>
                <a:ea typeface="SimSun"/>
              </a:rPr>
              <a:t>of every teaching procedure…IN ADVANCE.</a:t>
            </a:r>
            <a:endParaRPr b="0" lang="en-US" sz="24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8591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 teaching plan is 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  <a:ea typeface="SimSun"/>
              </a:rPr>
              <a:t>necess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for both novice and experienced teach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(Although preparation does no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guarant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successful lessons, walking into a classroom unprepared is often the beginning of a disastrous lesson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dvanced consideration of 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SimSun"/>
              </a:rPr>
              <a:t>your specific stud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, 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SimSun"/>
              </a:rPr>
              <a:t>the time of d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, and possible 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SimSun"/>
              </a:rPr>
              <a:t>mo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fluctuations coul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make or brea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 les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A82C-980C-494D-8C64-605E9807810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762120" y="175248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Broadway"/>
                <a:ea typeface="SimSun"/>
              </a:rPr>
              <a:t>Why should we consider these decisions? [turn &amp; talk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7238880" y="1066680"/>
            <a:ext cx="9907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2bf"/>
                </a:solidFill>
                <a:latin typeface="Times New Roman"/>
              </a:rPr>
              <a:t>A Lesson Plan is </a:t>
            </a:r>
            <a:r>
              <a:rPr b="0" lang="en-US" sz="3200" spc="-1" strike="noStrike" u="sng">
                <a:solidFill>
                  <a:srgbClr val="1782bf"/>
                </a:solidFill>
                <a:uFillTx/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1782bf"/>
                </a:solidFill>
                <a:latin typeface="Times New Roman"/>
              </a:rPr>
              <a:t> a schedule of events or an agenda to follow. </a:t>
            </a:r>
            <a:endParaRPr b="0" lang="en-US" sz="32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 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plan for student lear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at answers these key questions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students lear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To what degree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they learn? To what depth and breadth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ill they 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acqui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is learning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ill they 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demonstr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is lear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6858000" y="2209680"/>
            <a:ext cx="2133720" cy="10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OOD PLANNING</a:t>
            </a:r>
            <a:endParaRPr b="0" lang="en-US" sz="36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Keeps the teacher and students on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chieves the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Helps teachers to avoid “unpleasant” surpr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rovides the roadmap and visuals in a logical 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rovides direction to a sub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ncourages reflection, refinement, and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ebe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nhances student achie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j0078743"/>
          <p:cNvPicPr/>
          <p:nvPr/>
        </p:nvPicPr>
        <p:blipFill>
          <a:blip r:embed="rId1"/>
          <a:stretch/>
        </p:blipFill>
        <p:spPr>
          <a:xfrm>
            <a:off x="6781680" y="4572000"/>
            <a:ext cx="1987560" cy="2122560"/>
          </a:xfrm>
          <a:prstGeom prst="rect">
            <a:avLst/>
          </a:prstGeom>
          <a:ln w="0">
            <a:noFill/>
          </a:ln>
        </p:spPr>
      </p:pic>
      <p:sp>
        <p:nvSpPr>
          <p:cNvPr id="137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1CD1-F633-4148-8EE9-C9094D7555C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4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4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4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4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4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4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4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4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4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4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4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4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4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4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84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82bf"/>
                </a:solidFill>
                <a:latin typeface="Times New Roman"/>
                <a:ea typeface="SimSun"/>
              </a:rPr>
              <a:t>Benefits Teachers Receive</a:t>
            </a:r>
            <a:br>
              <a:rPr sz="3200"/>
            </a:br>
            <a:r>
              <a:rPr b="0" lang="en-US" sz="3200" spc="-1" strike="noStrike">
                <a:solidFill>
                  <a:srgbClr val="1782bf"/>
                </a:solidFill>
                <a:latin typeface="Times New Roman"/>
                <a:ea typeface="SimSun"/>
              </a:rPr>
              <a:t>from a Teaching Plan</a:t>
            </a:r>
            <a:endParaRPr b="0" lang="en-US" sz="3200" spc="-1" strike="noStrike">
              <a:solidFill>
                <a:srgbClr val="1782b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  <a:ea typeface="SimSun"/>
              </a:rPr>
              <a:t>1) Plans make the teacher aware of the </a:t>
            </a:r>
            <a:r>
              <a:rPr b="0" lang="en-US" sz="2600" spc="-1" strike="noStrike">
                <a:solidFill>
                  <a:srgbClr val="0070c0"/>
                </a:solidFill>
                <a:latin typeface="Century Schoolbook"/>
                <a:ea typeface="SimSun"/>
              </a:rPr>
              <a:t>aims and language content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  <a:ea typeface="SimSun"/>
              </a:rPr>
              <a:t> of the less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  <a:ea typeface="SimSun"/>
              </a:rPr>
              <a:t>2) Plans help the teacher distinguish the various stages of a lesson &amp; the relationship between them, so that the lesson can </a:t>
            </a:r>
            <a:r>
              <a:rPr b="0" lang="en-US" sz="2600" spc="-1" strike="noStrike">
                <a:solidFill>
                  <a:srgbClr val="0070c0"/>
                </a:solidFill>
                <a:latin typeface="Century Schoolbook"/>
                <a:ea typeface="SimSun"/>
              </a:rPr>
              <a:t>move smoothly 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  <a:ea typeface="SimSun"/>
              </a:rPr>
              <a:t>from one stage to anoth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  <a:ea typeface="SimSun"/>
              </a:rPr>
              <a:t>3) Proper lesson planning gives the teacher the opportunity to </a:t>
            </a:r>
            <a:r>
              <a:rPr b="0" lang="en-US" sz="2600" spc="-1" strike="noStrike">
                <a:solidFill>
                  <a:srgbClr val="0070c0"/>
                </a:solidFill>
                <a:latin typeface="Century Schoolbook"/>
                <a:ea typeface="SimSun"/>
              </a:rPr>
              <a:t>anticipate potential problems 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  <a:ea typeface="SimSun"/>
              </a:rPr>
              <a:t>that may arise in class, so that they can be prepared with some possible solutions or other options for the less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  <a:ea typeface="SimSun"/>
              </a:rPr>
              <a:t>4) Lesson planning gives teachers, especially novice teachers, </a:t>
            </a:r>
            <a:r>
              <a:rPr b="0" lang="en-US" sz="2600" spc="-1" strike="noStrike">
                <a:solidFill>
                  <a:srgbClr val="0070c0"/>
                </a:solidFill>
                <a:latin typeface="Century Schoolbook"/>
                <a:ea typeface="SimSun"/>
              </a:rPr>
              <a:t>confidence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  <a:ea typeface="SimSun"/>
              </a:rPr>
              <a:t> in clas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7E42-B275-4301-A817-AEC9A64E306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7315200" y="152280"/>
            <a:ext cx="128268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609480" y="1523880"/>
            <a:ext cx="813600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  <a:ea typeface="SimSun"/>
              </a:rPr>
              <a:t>5) Plans make the teacher aware of the </a:t>
            </a:r>
            <a:r>
              <a:rPr b="0" lang="en-US" sz="2600" spc="-1" strike="noStrike">
                <a:solidFill>
                  <a:srgbClr val="0070c0"/>
                </a:solidFill>
                <a:latin typeface="Century Schoolbook"/>
                <a:ea typeface="SimSun"/>
              </a:rPr>
              <a:t>teaching aids &amp; materials 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  <a:ea typeface="SimSun"/>
              </a:rPr>
              <a:t>that are needed for the less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  <a:ea typeface="SimSun"/>
              </a:rPr>
              <a:t>6) Lesson planning helps teachers to think about the </a:t>
            </a:r>
            <a:r>
              <a:rPr b="0" lang="en-US" sz="2600" spc="-1" strike="noStrike">
                <a:solidFill>
                  <a:srgbClr val="0070c0"/>
                </a:solidFill>
                <a:latin typeface="Century Schoolbook"/>
                <a:ea typeface="SimSun"/>
              </a:rPr>
              <a:t>relative value 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  <a:ea typeface="SimSun"/>
              </a:rPr>
              <a:t>of different activities &amp; how much time should be spent on them. The teacher soon learns to </a:t>
            </a:r>
            <a:r>
              <a:rPr b="0" lang="en-US" sz="2600" spc="-1" strike="noStrike">
                <a:solidFill>
                  <a:srgbClr val="0070c0"/>
                </a:solidFill>
                <a:latin typeface="Century Schoolbook"/>
                <a:ea typeface="SimSun"/>
              </a:rPr>
              <a:t>judge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  <a:ea typeface="SimSun"/>
              </a:rPr>
              <a:t> lesson stages and phases </a:t>
            </a:r>
            <a:r>
              <a:rPr b="0" lang="en-US" sz="2600" spc="-1" strike="noStrike">
                <a:solidFill>
                  <a:srgbClr val="0070c0"/>
                </a:solidFill>
                <a:latin typeface="Century Schoolbook"/>
                <a:ea typeface="SimSun"/>
              </a:rPr>
              <a:t>with greater accurac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  <a:ea typeface="SimSun"/>
              </a:rPr>
              <a:t>7) The plan, with the teacher’s comments and corrections, provide a useful, time-saving </a:t>
            </a:r>
            <a:r>
              <a:rPr b="0" lang="en-US" sz="2600" spc="-1" strike="noStrike">
                <a:solidFill>
                  <a:srgbClr val="0070c0"/>
                </a:solidFill>
                <a:latin typeface="Century Schoolbook"/>
                <a:ea typeface="SimSun"/>
              </a:rPr>
              <a:t>reference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  <a:ea typeface="SimSun"/>
              </a:rPr>
              <a:t> </a:t>
            </a:r>
            <a:r>
              <a:rPr b="0" lang="en-US" sz="2600" spc="-1" strike="noStrike">
                <a:solidFill>
                  <a:srgbClr val="0070c0"/>
                </a:solidFill>
                <a:latin typeface="Century Schoolbook"/>
                <a:ea typeface="SimSun"/>
              </a:rPr>
              <a:t>for the next time 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  <a:ea typeface="SimSun"/>
              </a:rPr>
              <a:t>the teacher plans this same less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  <a:ea typeface="SimSun"/>
              </a:rPr>
              <a:t>8) Lesson planning is a good practice and a sign of </a:t>
            </a:r>
            <a:r>
              <a:rPr b="0" lang="en-US" sz="2600" spc="-1" strike="noStrike">
                <a:solidFill>
                  <a:srgbClr val="0070c0"/>
                </a:solidFill>
                <a:latin typeface="Century Schoolbook"/>
                <a:ea typeface="SimSun"/>
              </a:rPr>
              <a:t>professionalism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  <a:ea typeface="SimSu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2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97F3-75E7-478D-84BD-F97F07AA466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301680" y="380880"/>
            <a:ext cx="88423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82bf"/>
                </a:solidFill>
                <a:latin typeface="Times New Roman"/>
                <a:ea typeface="SimSun"/>
              </a:rPr>
              <a:t>Benefits … </a:t>
            </a:r>
            <a:r>
              <a:rPr b="0" lang="en-US" sz="3200" spc="-1" strike="noStrike">
                <a:solidFill>
                  <a:srgbClr val="1782bf"/>
                </a:solidFill>
                <a:latin typeface="Times New Roman"/>
                <a:ea typeface="SimSu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7315200" y="152280"/>
            <a:ext cx="128268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8T15:42:58Z</dcterms:created>
  <dc:creator>Charlotte Danielson</dc:creator>
  <dc:description/>
  <dc:language>en-US</dc:language>
  <cp:lastModifiedBy>Dalainy Amador-Pirnie</cp:lastModifiedBy>
  <dcterms:modified xsi:type="dcterms:W3CDTF">2012-01-15T22:02:54Z</dcterms:modified>
  <cp:revision>160</cp:revision>
  <dc:subject/>
  <dc:title>The Framework for Teacher Leadership</dc:title>
</cp:coreProperties>
</file>